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C593-C920-48C4-AB99-89628FB6D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2992-4A15-483B-B910-FFAADFA3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838D-C7AE-4292-A864-CCB66959A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E463-782F-4FAB-B275-081C0C0C1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C8A0-5F10-4E04-81B5-09D0D5E12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FA11-CE81-4EBC-92CB-1AC4BC2D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9248-3542-4CCF-A2EC-7F35A2F6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AA15-8069-4303-B3F4-BA659112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0249-F32E-42CD-8511-22603082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ABA0-8FD6-4BC2-B78C-6F622ABF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7EF2-0145-4AF8-A84B-822F45BF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F16A-4182-4456-9D5A-09375F34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73BF-3E27-4DC1-A390-8CFCE9CB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191A-159B-4328-B795-C7271E68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6783-1DA0-4C8C-B6AF-8488104D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8FE1-4E4F-4FC0-ACBD-DACAB0F0D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4FBD-6287-4102-861A-0F87CE881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4A4B-AC82-45B4-ADDB-CD4F8B84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2379-B91C-4DAB-B7A0-C11656CF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523D-660A-43CF-A7B0-C7298942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7001-549B-43CF-BEEA-51E9B639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2F9C-17F1-4DC1-9C68-EAF22578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4682-5FEE-437D-98B0-26F23FDB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A09B-7986-4FDC-8C72-747B6465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26B5-BF24-492E-B3CD-BB4E169A0A9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85EC-F3A8-424B-9C04-C76956C154C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          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elcome mom and dad  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796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r. Lucci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urth Grade Spring Conferenc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rch 20, 2009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85800" y="2914560"/>
            <a:ext cx="3809880" cy="2857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 you for coming!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ny questions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 Read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2209680"/>
            <a:ext cx="80010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ading skills I have worked on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ocabulary 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Gramma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pelling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y favorite books I’ve read in clas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Boxcar Children Book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A-Z Mysteries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o Dogs Allowe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Math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9320" y="2437920"/>
            <a:ext cx="716256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th skills that I have worked on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ractio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eometry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umber sentences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y favorite activity to do in math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SAT tes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am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dding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cience and Social Studi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281952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cien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cology 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lectricity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rying to make the bulb light up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cial Studi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aps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conomics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Geography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 Writ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Weird Wake Up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reative Writing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ournal topics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2" dur="1" fill="hold"/>
                                  <p:tgtEl>
                                    <p:spTgt spid="9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1142640"/>
            <a:ext cx="883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y favorite experiences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85440" y="2362320"/>
            <a:ext cx="3809880" cy="3504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2057040"/>
            <a:ext cx="449568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oing to UL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aking the ISAT tes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aking the MAP tests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etting ready for the IS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ings I’m good at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ad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cienc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th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cial studies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2362320"/>
            <a:ext cx="716256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1" dur="1" fill="hold"/>
                                  <p:tgtEl>
                                    <p:spTgt spid="9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1fd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ings I need to work on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236232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pe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ramm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y Goals for the next three months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 will be better at multiplication by practicing it a lot more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 will be better at spelling by studying it a lot mor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 will get better at reading by reading a lot mor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7:13:09Z</dcterms:created>
  <dc:creator>NSSD112</dc:creator>
  <dc:description/>
  <dc:language>en-US</dc:language>
  <cp:lastModifiedBy>NSSD112</cp:lastModifiedBy>
  <dcterms:modified xsi:type="dcterms:W3CDTF">2009-03-18T18:19:02Z</dcterms:modified>
  <cp:revision>32</cp:revision>
  <dc:subject/>
  <dc:title>Welcome Mom and Dad!</dc:title>
</cp:coreProperties>
</file>